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ED75-6468-4E47-A09C-2AC4E928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ECF5-4ADE-424C-9095-7EBF45A5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E16-1F7D-4FD2-B2CB-C7B9D41E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FF01-DFFE-44C5-BD00-96840B9E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0553-65C0-4DB0-A83A-3E7738C3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44B2-34DF-4006-A57F-E97F250E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CDB4-CB25-44C0-886C-D3CFB57D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057E-C710-4C00-8AB7-993718B5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BA66-81BA-49B9-89DE-18FC31EB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FD9B-A88D-4FFF-AC9A-7395E1C6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CF0F-C2EF-47F1-9DC9-5FFE7934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FD49-C419-4BD0-BEEF-64294E37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11A3-2FC6-457E-A720-0DFB5099A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s’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ssessment about, what is ‘Roots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590400"/>
            <a:ext cx="835668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87375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uggeste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opening paragraph containing details: It’s a TV series, based on a book by…, tells the story of…. Etc (no more than 70-100 wo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section: Combining your analysis with the summary. E.g. The show features a captain…. This change may have been because….this affects the shows reliability because….howev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Roo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V mini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a book written by Alex Hay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hown in the USA in 19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ive success: watched by 85% of US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urce of history for many people in the USA for years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bout the boo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ed in 19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ly the story of Alex Hayley’s family history, blended with f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selling book of all time in the USA at th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istorical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ime of continuing racial tensions in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people in much improved position thanks to efforts of people like M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 discrimination still continu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was a show showing black people as the hero’s and a telling the story of ‘black history’ for the first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TV review for a kids history magaz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the plot, characters, the author and how useful the show is for young people studying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 word max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the sheet for further details and mark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ing the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now you should have a good understanding of the 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also understand some of the criticism received by the book and sh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you need to combine these two things into your review: an assessment of how useful this show is for students studying the slave t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ing your assessm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mmary of the 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priate grammar and correct presentation (see guide she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ssessment of the usefulness and reliability of the mini-series as a historical source for young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final opinion on this ma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ness vs reliability, what’s the dif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 take a look at an example.. Imagine you were studying the reasons for Germany’s defeat in WW1 1914-1918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1388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lwich</cp:lastModifiedBy>
  <dcterms:modified xsi:type="dcterms:W3CDTF">2007-10-29T05:12:07Z</dcterms:modified>
  <cp:revision>8</cp:revision>
  <dc:subject/>
  <dc:title>‘Roots’ assessment</dc:title>
</cp:coreProperties>
</file>